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907588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91527-D870-4898-94F1-1A79CCB942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0A1A1-E876-4B11-965A-9690F42E81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24865-4696-449F-8E84-63621BC1BD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FE559-98FB-4355-9223-2FB8AAF5F5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95522-DAA4-4D63-952A-0D9142F119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07C0B-19C2-4832-9544-3FDE4251E0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D5F31-1B44-43BD-B8B8-83204BAB8B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33CF5-3DDC-48BD-8D0F-4C51B7C755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5000" y="396720"/>
            <a:ext cx="765648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32FF7-CDA7-4413-A0FB-20BB711D62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338D6-A71D-4F4D-B6B0-8B74A10606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BFE0A-B202-4B62-946D-C92A919E4F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9FA34-E254-4351-999D-79EC8C31D2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>
            <a:off x="3240" y="1440"/>
            <a:ext cx="9889920" cy="86868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821720" y="6585120"/>
            <a:ext cx="2063520" cy="26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05D27753-227D-4093-8890-29821086C516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2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33"/>
          <p:cNvSpPr/>
          <p:nvPr/>
        </p:nvSpPr>
        <p:spPr>
          <a:xfrm>
            <a:off x="19080" y="6593040"/>
            <a:ext cx="835488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CALL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Dokumentation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. gedruckt am: </a:t>
            </a:r>
            <a:fld id="{C32E95F9-AE36-4A04-AD3C-7F4E5409A162}" type="datetime">
              <a:rPr b="0" lang="de-DE" sz="9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34"/>
          <p:cNvSpPr/>
          <p:nvPr/>
        </p:nvSpPr>
        <p:spPr>
          <a:xfrm>
            <a:off x="0" y="656604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Grafik 2" descr=""/>
          <p:cNvPicPr/>
          <p:nvPr/>
        </p:nvPicPr>
        <p:blipFill>
          <a:blip r:embed="rId9"/>
          <a:srcRect l="78420" t="0" r="0" b="0"/>
          <a:stretch/>
        </p:blipFill>
        <p:spPr>
          <a:xfrm>
            <a:off x="8839080" y="44280"/>
            <a:ext cx="970200" cy="50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oliennummernplatzhalter 2"/>
          <p:cNvSpPr/>
          <p:nvPr/>
        </p:nvSpPr>
        <p:spPr>
          <a:xfrm>
            <a:off x="7821720" y="658512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8E91EF00-A7A3-415D-B5C4-D9EF28910B23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#CustomName# Upgrade #NX#  - #TC#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358920" y="2374920"/>
            <a:ext cx="928836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0" bIns="0" anchor="ctr">
            <a:noAutofit/>
          </a:bodyPr>
          <a:p>
            <a:pPr>
              <a:tabLst>
                <a:tab algn="l" pos="0"/>
                <a:tab algn="l" pos="10796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CALL: 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#CallNr#  </a:t>
            </a:r>
            <a:br>
              <a:rPr sz="2600"/>
            </a:b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#CallDescription#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358920" y="4724280"/>
            <a:ext cx="4125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66680" indent="-1666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Erstellt: </a:t>
            </a: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#??.??.201?#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Von:</a:t>
            </a: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#Name1#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Stand:</a:t>
            </a: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#??.??.201?#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Beschreibung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oliennummernplatzhalter 2"/>
          <p:cNvSpPr/>
          <p:nvPr/>
        </p:nvSpPr>
        <p:spPr>
          <a:xfrm>
            <a:off x="7821720" y="658512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062E8321-BE1A-42D9-80C0-6B0020017653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feld 3"/>
          <p:cNvSpPr/>
          <p:nvPr/>
        </p:nvSpPr>
        <p:spPr>
          <a:xfrm>
            <a:off x="236520" y="106848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Bitte hier den Beschreibungstext einfüg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131"/>
          <p:cNvSpPr/>
          <p:nvPr/>
        </p:nvSpPr>
        <p:spPr>
          <a:xfrm>
            <a:off x="-411120" y="2382840"/>
            <a:ext cx="216000" cy="216000"/>
          </a:xfrm>
          <a:prstGeom prst="ellipse">
            <a:avLst/>
          </a:prstGeom>
          <a:solidFill>
            <a:srgbClr val="ffff00"/>
          </a:solidFill>
          <a:ln w="64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132"/>
          <p:cNvSpPr/>
          <p:nvPr/>
        </p:nvSpPr>
        <p:spPr>
          <a:xfrm>
            <a:off x="-411120" y="2673360"/>
            <a:ext cx="216000" cy="216000"/>
          </a:xfrm>
          <a:prstGeom prst="ellipse">
            <a:avLst/>
          </a:prstGeom>
          <a:solidFill>
            <a:srgbClr val="ffff00"/>
          </a:solidFill>
          <a:ln w="64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33"/>
          <p:cNvSpPr/>
          <p:nvPr/>
        </p:nvSpPr>
        <p:spPr>
          <a:xfrm>
            <a:off x="-411120" y="3013200"/>
            <a:ext cx="216000" cy="217440"/>
          </a:xfrm>
          <a:prstGeom prst="ellipse">
            <a:avLst/>
          </a:prstGeom>
          <a:solidFill>
            <a:srgbClr val="ffff00"/>
          </a:solidFill>
          <a:ln w="64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Object 7"/>
          <p:cNvGraphicFramePr/>
          <p:nvPr/>
        </p:nvGraphicFramePr>
        <p:xfrm>
          <a:off x="-411120" y="3392640"/>
          <a:ext cx="304920" cy="30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11120" y="3392640"/>
                    <a:ext cx="30492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5" name="Picture 8" descr="wichtig"/>
          <p:cNvPicPr/>
          <p:nvPr/>
        </p:nvPicPr>
        <p:blipFill>
          <a:blip r:embed="rId3"/>
          <a:stretch/>
        </p:blipFill>
        <p:spPr>
          <a:xfrm>
            <a:off x="-438120" y="3857760"/>
            <a:ext cx="331920" cy="312480"/>
          </a:xfrm>
          <a:prstGeom prst="rect">
            <a:avLst/>
          </a:prstGeom>
          <a:ln w="0">
            <a:noFill/>
          </a:ln>
        </p:spPr>
      </p:pic>
      <p:sp>
        <p:nvSpPr>
          <p:cNvPr id="56" name="Oval 131"/>
          <p:cNvSpPr/>
          <p:nvPr/>
        </p:nvSpPr>
        <p:spPr>
          <a:xfrm>
            <a:off x="-411120" y="2097000"/>
            <a:ext cx="216000" cy="216000"/>
          </a:xfrm>
          <a:prstGeom prst="ellipse">
            <a:avLst/>
          </a:prstGeom>
          <a:solidFill>
            <a:srgbClr val="ffff00"/>
          </a:solidFill>
          <a:ln w="64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09:19:42Z</dcterms:created>
  <dc:creator>Josef Feuerstein</dc:creator>
  <dc:description/>
  <dc:language>en-US</dc:language>
  <cp:lastModifiedBy>Josef Feuerstein</cp:lastModifiedBy>
  <cp:lastPrinted>2002-04-15T13:20:54Z</cp:lastPrinted>
  <dcterms:modified xsi:type="dcterms:W3CDTF">2012-08-09T09:13:30Z</dcterms:modified>
  <cp:revision>159</cp:revision>
  <dc:subject/>
  <dc:title>Refile Manager V1.0</dc:title>
</cp:coreProperties>
</file>